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0DC-FFE3-4C32-AE57-59887A55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AD7-1B72-41C3-91CC-EAE33AC8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979-C455-40D4-BAAA-0E3B862A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2B7-9F22-4B86-8FB0-2C76D7C2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A0D-FBC9-48C0-9480-054F446C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A93-A13A-4522-95AD-5C20B4F8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92B-F572-410D-ACF7-C4BEF227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6BE-B557-4676-877F-0BCB0459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03E-5BF1-4CF5-A48E-F058BB02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C7B-E64B-48BE-83B6-703790E1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D00-1112-4411-BDDB-D43D1C2E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9FE-6853-4072-AAE8-FAFAD93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4037-8F80-4A9C-9303-4EFF95505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icalelements.com/index.html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10480" cy="146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eptember 7</a:t>
            </a:r>
            <a:r>
              <a:rPr b="1" lang="en-US" sz="6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, 20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pter 1 Voca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ular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Structure &amp;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hemical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cells composed of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chemicals of life; water, carbohydrate, proteins, lipids and nucleic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Chapter 1 Vocab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ze Chemical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, Al, Ne, Cl, Na, M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your element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hemicalelements.com/index.html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3:39:59Z</dcterms:created>
  <dc:creator>Sterling Grade School</dc:creator>
  <dc:description/>
  <dc:language>en-US</dc:language>
  <cp:lastModifiedBy>Sterling Grade School</cp:lastModifiedBy>
  <dcterms:modified xsi:type="dcterms:W3CDTF">2010-09-07T20:21:10Z</dcterms:modified>
  <cp:revision>2</cp:revision>
  <dc:subject/>
  <dc:title>September 7th, 2010</dc:title>
</cp:coreProperties>
</file>